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2585-8179-4C3A-98D3-442C876897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ECC3-06C6-483D-90A4-615996B32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A1A4-CA1A-475F-A850-1D2102E38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093-504B-4688-AFD6-A8016C109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FF07-AB2C-4B6C-855C-B6BA5D9F3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9CD1-CD31-4981-8435-36AA4140E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8CDD-076A-42E3-BC9D-7DFB5BE29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2214-4AFB-4735-AE95-ECD38E09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B06-C793-4B72-9A20-C07C08907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E652-FD43-4BE2-A780-E599A81D8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E9B-E1FB-4221-8867-EEBF0AD4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48F-92A0-45F5-AABF-41548F45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AA6-A0DD-4F40-B536-F73BD67B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855-2380-437B-A737-BBF0729B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0F1-6858-4A07-9C4A-EC71F4AA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1085-9605-469E-9EEE-943048C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A90-98BF-46BA-B5A3-90B4899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3A4-24D9-4E88-B0C4-D741C45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D88-A894-4382-902C-85C11981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E7B-F0EC-4818-9715-64C8C565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C90-5970-4216-8D7E-A4DD628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9E4-AAE6-4A0B-A51F-068D8CA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9D33-2C57-4402-AF0E-FA6CAFF26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B44-6C00-4862-B4C3-0F0340261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" descr="HoleinOne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2 Bisector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5812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ole in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304920" y="5334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you know how many dimples are on a regulation golf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191120" y="5938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traight Connector 20"/>
          <p:cNvSpPr/>
          <p:nvPr/>
        </p:nvSpPr>
        <p:spPr>
          <a:xfrm flipH="1">
            <a:off x="4570560" y="1982880"/>
            <a:ext cx="28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4343400" y="1981080"/>
            <a:ext cx="2286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4"/>
          <p:cNvSpPr/>
          <p:nvPr/>
        </p:nvSpPr>
        <p:spPr>
          <a:xfrm flipV="1">
            <a:off x="2742480" y="1116000"/>
            <a:ext cx="1544760" cy="1093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7"/>
          <p:cNvSpPr/>
          <p:nvPr/>
        </p:nvSpPr>
        <p:spPr>
          <a:xfrm flipH="1" flipV="1">
            <a:off x="4343040" y="1066320"/>
            <a:ext cx="16002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9"/>
          <p:cNvSpPr/>
          <p:nvPr/>
        </p:nvSpPr>
        <p:spPr>
          <a:xfrm flipV="1">
            <a:off x="2744640" y="2207880"/>
            <a:ext cx="3200400" cy="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11"/>
          <p:cNvCxnSpPr/>
          <p:nvPr/>
        </p:nvCxnSpPr>
        <p:spPr>
          <a:xfrm flipV="1">
            <a:off x="4343400" y="763200"/>
            <a:ext cx="2160" cy="1753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1" name="TextBox 12"/>
          <p:cNvSpPr/>
          <p:nvPr/>
        </p:nvSpPr>
        <p:spPr>
          <a:xfrm>
            <a:off x="2514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8862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715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4343400" y="76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>
            <a:off x="4267080" y="99072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21"/>
          <p:cNvSpPr/>
          <p:nvPr/>
        </p:nvSpPr>
        <p:spPr>
          <a:xfrm flipH="1">
            <a:off x="5103360" y="2057400"/>
            <a:ext cx="1800" cy="27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22"/>
          <p:cNvSpPr/>
          <p:nvPr/>
        </p:nvSpPr>
        <p:spPr>
          <a:xfrm flipH="1">
            <a:off x="3505320" y="2057400"/>
            <a:ext cx="1440" cy="274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0"/>
          <p:cNvSpPr/>
          <p:nvPr/>
        </p:nvSpPr>
        <p:spPr>
          <a:xfrm>
            <a:off x="6095880" y="914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perpendicular bis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32"/>
          <p:cNvSpPr/>
          <p:nvPr/>
        </p:nvSpPr>
        <p:spPr>
          <a:xfrm>
            <a:off x="6172200" y="990720"/>
            <a:ext cx="45720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35"/>
          <p:cNvSpPr/>
          <p:nvPr/>
        </p:nvSpPr>
        <p:spPr>
          <a:xfrm>
            <a:off x="7620120" y="1371600"/>
            <a:ext cx="304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8600" y="2895480"/>
            <a:ext cx="8686800" cy="129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2: Perpendicular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on the perpendicular bisector of a segment, then it is equidistant from the endpoints of the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4648320"/>
            <a:ext cx="8686800" cy="1295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3: Converse of the Perpendicular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equidistant from the endpoints of a segment, then it is on the perpendicular bisector of the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562720" y="506520"/>
            <a:ext cx="3124080" cy="2465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049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7"/>
          <p:cNvSpPr/>
          <p:nvPr/>
        </p:nvSpPr>
        <p:spPr>
          <a:xfrm>
            <a:off x="0" y="304812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228600" y="3276720"/>
            <a:ext cx="8086680" cy="2492280"/>
            <a:chOff x="228600" y="3276720"/>
            <a:chExt cx="8086680" cy="249228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tretch/>
          </p:blipFill>
          <p:spPr>
            <a:xfrm>
              <a:off x="5486400" y="3809880"/>
              <a:ext cx="282888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8"/>
            <p:cNvSpPr/>
            <p:nvPr/>
          </p:nvSpPr>
          <p:spPr>
            <a:xfrm>
              <a:off x="228600" y="32767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the valu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, HI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J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457200" y="5410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04920" y="685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e perpendicular bisector of 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4920" y="3581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of the perpendicular bis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352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-1)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8328" t="8328" r="8328" b="8328"/>
          <a:stretch/>
        </p:blipFill>
        <p:spPr>
          <a:xfrm>
            <a:off x="6400800" y="4191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0" y="350532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rcRect l="8328" t="8328" r="8328" b="8328"/>
          <a:stretch/>
        </p:blipFill>
        <p:spPr>
          <a:xfrm>
            <a:off x="6400800" y="1066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251460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(-2,-3), D( 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3"/>
          <p:cNvSpPr/>
          <p:nvPr/>
        </p:nvSpPr>
        <p:spPr>
          <a:xfrm>
            <a:off x="48006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34"/>
          <p:cNvSpPr/>
          <p:nvPr/>
        </p:nvSpPr>
        <p:spPr>
          <a:xfrm flipV="1">
            <a:off x="4039200" y="2212200"/>
            <a:ext cx="18324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36"/>
          <p:cNvSpPr/>
          <p:nvPr/>
        </p:nvSpPr>
        <p:spPr>
          <a:xfrm>
            <a:off x="4221720" y="2210400"/>
            <a:ext cx="136800" cy="183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7"/>
          <p:cNvSpPr/>
          <p:nvPr/>
        </p:nvSpPr>
        <p:spPr>
          <a:xfrm>
            <a:off x="3417120" y="1600200"/>
            <a:ext cx="1459080" cy="44604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9"/>
          <p:cNvSpPr/>
          <p:nvPr/>
        </p:nvSpPr>
        <p:spPr>
          <a:xfrm>
            <a:off x="3463920" y="1635120"/>
            <a:ext cx="1184400" cy="57456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2"/>
          <p:cNvSpPr/>
          <p:nvPr/>
        </p:nvSpPr>
        <p:spPr>
          <a:xfrm>
            <a:off x="3463920" y="1635120"/>
            <a:ext cx="727200" cy="8794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4"/>
          <p:cNvSpPr/>
          <p:nvPr/>
        </p:nvSpPr>
        <p:spPr>
          <a:xfrm>
            <a:off x="3463200" y="1635120"/>
            <a:ext cx="422280" cy="11080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6"/>
          <p:cNvSpPr/>
          <p:nvPr/>
        </p:nvSpPr>
        <p:spPr>
          <a:xfrm>
            <a:off x="3463920" y="1635120"/>
            <a:ext cx="117360" cy="133668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8954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04920" y="914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find the distance from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l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6553080" y="990720"/>
            <a:ext cx="457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1" name="Straight Arrow Connector 9"/>
          <p:cNvCxnSpPr/>
          <p:nvPr/>
        </p:nvCxnSpPr>
        <p:spPr>
          <a:xfrm flipV="1">
            <a:off x="3276360" y="1828440"/>
            <a:ext cx="190548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2" name="Oval 10"/>
          <p:cNvSpPr/>
          <p:nvPr/>
        </p:nvSpPr>
        <p:spPr>
          <a:xfrm>
            <a:off x="3505320" y="297180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876920" y="198108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35053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3352680" y="1523880"/>
            <a:ext cx="131760" cy="131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228600" y="3886200"/>
            <a:ext cx="868680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from a Point to a Line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ngth of the perpendicular segment from the point to the 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3"/>
          <p:cNvSpPr/>
          <p:nvPr/>
        </p:nvSpPr>
        <p:spPr>
          <a:xfrm>
            <a:off x="411480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5"/>
          <p:cNvSpPr/>
          <p:nvPr/>
        </p:nvSpPr>
        <p:spPr>
          <a:xfrm flipH="1" flipV="1">
            <a:off x="4038480" y="1599840"/>
            <a:ext cx="416160" cy="42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rc 37"/>
          <p:cNvSpPr/>
          <p:nvPr/>
        </p:nvSpPr>
        <p:spPr>
          <a:xfrm rot="3105000">
            <a:off x="3185640" y="2271600"/>
            <a:ext cx="304920" cy="304920"/>
          </a:xfrm>
          <a:custGeom>
            <a:avLst/>
            <a:gdLst/>
            <a:ahLst/>
            <a:rect l="l" t="t" r="r" b="b"/>
            <a:pathLst>
              <a:path stroke="0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  <a:lnTo>
                  <a:pt x="152400" y="152400"/>
                </a:lnTo>
                <a:lnTo>
                  <a:pt x="152400" y="0"/>
                </a:lnTo>
                <a:close/>
              </a:path>
              <a:path fill="none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3200400" y="2133720"/>
            <a:ext cx="304920" cy="304560"/>
          </a:xfrm>
          <a:custGeom>
            <a:avLst/>
            <a:gdLst/>
            <a:ahLst/>
            <a:rect l="l" t="t" r="r" b="b"/>
            <a:pathLst>
              <a:path stroke="0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  <a:lnTo>
                  <a:pt x="152400" y="152400"/>
                </a:lnTo>
                <a:lnTo>
                  <a:pt x="152400" y="0"/>
                </a:lnTo>
                <a:close/>
              </a:path>
              <a:path fill="none" w="304800" h="304800">
                <a:moveTo>
                  <a:pt x="152400" y="0"/>
                </a:moveTo>
                <a:cubicBezTo>
                  <a:pt x="236568" y="0"/>
                  <a:pt x="304800" y="68232"/>
                  <a:pt x="304800" y="15240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30"/>
          <p:cNvSpPr/>
          <p:nvPr/>
        </p:nvSpPr>
        <p:spPr>
          <a:xfrm flipV="1">
            <a:off x="4114440" y="2439000"/>
            <a:ext cx="48600" cy="223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1"/>
          <p:cNvSpPr/>
          <p:nvPr/>
        </p:nvSpPr>
        <p:spPr>
          <a:xfrm>
            <a:off x="4161600" y="2437920"/>
            <a:ext cx="222120" cy="4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27"/>
          <p:cNvSpPr/>
          <p:nvPr/>
        </p:nvSpPr>
        <p:spPr>
          <a:xfrm flipH="1">
            <a:off x="4021200" y="1749960"/>
            <a:ext cx="168480" cy="152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28"/>
          <p:cNvSpPr/>
          <p:nvPr/>
        </p:nvSpPr>
        <p:spPr>
          <a:xfrm flipH="1" flipV="1">
            <a:off x="3869280" y="1734840"/>
            <a:ext cx="151200" cy="169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6"/>
          <p:cNvSpPr/>
          <p:nvPr/>
        </p:nvSpPr>
        <p:spPr>
          <a:xfrm flipH="1">
            <a:off x="4343400" y="2133720"/>
            <a:ext cx="141120" cy="57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V="1">
            <a:off x="2971800" y="990000"/>
            <a:ext cx="1829520" cy="144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8"/>
          <p:cNvCxnSpPr/>
          <p:nvPr/>
        </p:nvCxnSpPr>
        <p:spPr>
          <a:xfrm>
            <a:off x="2971800" y="2438280"/>
            <a:ext cx="236304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V="1">
            <a:off x="2971440" y="1828080"/>
            <a:ext cx="25916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Oval 11"/>
          <p:cNvSpPr/>
          <p:nvPr/>
        </p:nvSpPr>
        <p:spPr>
          <a:xfrm>
            <a:off x="4419720" y="121932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419720" y="2001960"/>
            <a:ext cx="131760" cy="131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25909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4572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5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8"/>
          <p:cNvSpPr/>
          <p:nvPr/>
        </p:nvSpPr>
        <p:spPr>
          <a:xfrm>
            <a:off x="5562720" y="91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bisect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7924680" y="1027080"/>
                <a:ext cx="9144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  <m:r>
                      <m:rPr>
                        <m:lit/>
                        <m:nor/>
                      </m:rPr>
                      <m:t xml:space="preserve">C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2"/>
          <p:cNvSpPr/>
          <p:nvPr/>
        </p:nvSpPr>
        <p:spPr>
          <a:xfrm>
            <a:off x="228600" y="3352680"/>
            <a:ext cx="868680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4: Angle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s on the bisector of an angle, then the point is equidistant from the sides of the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28600" y="4648320"/>
            <a:ext cx="8686800" cy="121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5: Converse of the Angle Bisector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a point in the interior of an angle is equidistant from the sides of the angle, then the point is on the angle bi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886200" cy="2654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Bi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914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5491080" y="3352680"/>
            <a:ext cx="3652920" cy="31244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04920" y="35053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               . Explain your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973080" y="3618000"/>
                <a:ext cx="12366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Ð</m:t>
                    </m:r>
                    <m:r>
                      <m:rPr>
                        <m:lit/>
                        <m:nor/>
                      </m:rPr>
                      <m:t xml:space="preserve">DE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Straight Connector 9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7" descr="bluefin-tuna_greenpeace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95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2 Bisector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 5.2: p. 267 #6-15, 18-25, 48,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2286000" y="525780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una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8:41:23Z</dcterms:created>
  <dc:creator>Stephanie Ruth Rentel</dc:creator>
  <dc:description/>
  <dc:language>en-US</dc:language>
  <cp:lastModifiedBy>dasevedo</cp:lastModifiedBy>
  <cp:lastPrinted>2011-10-19T17:53:57Z</cp:lastPrinted>
  <dcterms:modified xsi:type="dcterms:W3CDTF">2012-09-20T18:53:34Z</dcterms:modified>
  <cp:revision>54</cp:revision>
  <dc:subject/>
  <dc:title>Slide 1</dc:title>
</cp:coreProperties>
</file>